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58E-B1AD-4873-8C4A-BD28D6F4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AE5-8D59-4B60-8D5B-A3911FB7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767-B82A-4F8A-90BA-FF9948CC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528-CD38-4FCA-88E0-193B14DB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106A4-E84A-40DA-95C0-419092CF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E23EF-2E18-4C0D-A6D4-1A856743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FB7F8-104F-467D-B878-4B39F263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85B39-7219-48F7-8250-7A3AA82E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9EC58-C755-47B7-8CAC-72D5B7A5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337A6-9570-4F86-A302-4B22F9BF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660A9-CD5F-4802-853C-5C55737E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EA5-A4CE-4F61-9D60-5C99A53D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F171C-DAED-4447-803F-32D725D5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F2B63-4876-4D5F-A68F-B47FF611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154A8-F908-4F20-A456-B0D2FDD7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01ABD-53DD-4CEA-9BB4-D48F5580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FA33E-7226-48B6-905A-F13B2696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A9DF5-4DFE-46A6-A9AE-FDE91CEC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0B258-7462-405B-81A6-69F1F218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94F9-BC10-4CEC-9559-D7AB5326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58517-E7AA-4D02-B0EF-2FE8A0A8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52E3-A8DC-4586-B19E-3A5C553D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4BE-14F6-4E23-B9D6-77FD061F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C434-9E54-437A-9F40-CF935C09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F94D-C31E-492C-89D5-143DE7B1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A6C29-A487-43D7-9ABE-7F3ABDD9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72A2-C950-4EDF-80FF-0B340FE4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5463-B1BC-465E-BE40-24D62AAB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49DC-EA41-4094-AFAD-7FF5FFEB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929F-1AB6-4B2F-91BB-60B71E6C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A7A917-B034-4A4C-8393-5472D747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92015-462E-4428-B7A8-3520098C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3F040-90E3-4309-A09B-E6868FBE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F4F-A176-4DA7-8AA2-7BD60CFE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E9B02-E603-4D2D-9455-97219FDA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C0075C-74AE-49BE-B46A-6C6732CA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ED29A7-FB0F-4E3C-8C07-2C9683AB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A5426-A675-48A5-8F65-5072F877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7C4AE-712D-492B-81FF-219EC5F5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98B55-CA97-4A11-8AC4-32AA70EA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34D4CC-6000-4D10-BEFB-DCA25EA0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FBA01-FF2B-4983-ABE3-E566DFCD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18421E-F106-475A-B029-729B2E0C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F2B-77C4-44F2-AD0E-6491E9A6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B5A-2489-4BCD-9DB2-EA90F8B5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DE5-AE2C-4024-BAAD-534070E1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228-5B72-409D-B17C-FD5B53D1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989-9780-4EAA-B5B4-3B9F9D6E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3517-50DB-47CC-9F07-8EE4D406CD1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9810-4B6E-4AEC-B4A5-F0FDF9D6225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4A57-A629-4CE0-89DB-C74C6EAD9EF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6D6A-BBFE-4FE6-AFE5-53F33803451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155520" y="-533520"/>
            <a:ext cx="11145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55520" y="-533520"/>
            <a:ext cx="11145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Rectangle 8" descr=""/>
          <p:cNvPicPr/>
          <p:nvPr/>
        </p:nvPicPr>
        <p:blipFill>
          <a:blip r:embed="rId1"/>
          <a:stretch/>
        </p:blipFill>
        <p:spPr>
          <a:xfrm>
            <a:off x="1474920" y="2571840"/>
            <a:ext cx="6065640" cy="16891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>
            <a:off x="990720" y="83808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adley Hand ITC"/>
              </a:rPr>
              <a:t>My Name is..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apple.bmp"/>
          <p:cNvPicPr/>
          <p:nvPr/>
        </p:nvPicPr>
        <p:blipFill>
          <a:blip r:embed="rId2"/>
          <a:stretch/>
        </p:blipFill>
        <p:spPr>
          <a:xfrm>
            <a:off x="5867280" y="4292640"/>
            <a:ext cx="1994040" cy="2260440"/>
          </a:xfrm>
          <a:prstGeom prst="rect">
            <a:avLst/>
          </a:prstGeom>
          <a:ln w="9360">
            <a:solidFill>
              <a:srgbClr val="dd7e0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3124080" y="60948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ing a good listener  and a good friend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2"/>
          <p:cNvSpPr/>
          <p:nvPr/>
        </p:nvSpPr>
        <p:spPr>
          <a:xfrm>
            <a:off x="1371600" y="914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Things I do not like  are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4952880" y="56386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goss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1828800" y="3886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67057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066680" y="220968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rd working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 friend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ponsib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ind person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 good listen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1600200" y="68580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Jess Houck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276720" y="5562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: Jhouck60@gmail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6"/>
          <p:cNvSpPr/>
          <p:nvPr/>
        </p:nvSpPr>
        <p:spPr>
          <a:xfrm>
            <a:off x="1447920" y="83808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I live in Hatboro, P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1" descr=""/>
          <p:cNvPicPr/>
          <p:nvPr/>
        </p:nvPicPr>
        <p:blipFill>
          <a:blip r:embed="rId1"/>
          <a:stretch/>
        </p:blipFill>
        <p:spPr>
          <a:xfrm>
            <a:off x="-237960" y="146160"/>
            <a:ext cx="8778600" cy="1536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google.bmp"/>
          <p:cNvPicPr/>
          <p:nvPr/>
        </p:nvPicPr>
        <p:blipFill>
          <a:blip r:embed="rId2"/>
          <a:stretch/>
        </p:blipFill>
        <p:spPr>
          <a:xfrm>
            <a:off x="1905120" y="2362320"/>
            <a:ext cx="484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will graduated from the Hiram G. Andrews  Center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will be an assistant  teacher in a preschool roo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 will be married and living on my ow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-66600" y="-201600"/>
            <a:ext cx="8759880" cy="1579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BC9_NTSS.jpg"/>
          <p:cNvPicPr/>
          <p:nvPr/>
        </p:nvPicPr>
        <p:blipFill>
          <a:blip r:embed="rId2"/>
          <a:stretch/>
        </p:blipFill>
        <p:spPr>
          <a:xfrm>
            <a:off x="4495680" y="3733920"/>
            <a:ext cx="4084920" cy="2635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imagesCATPDBZI.jpg"/>
          <p:cNvPicPr/>
          <p:nvPr/>
        </p:nvPicPr>
        <p:blipFill>
          <a:blip r:embed="rId3"/>
          <a:stretch/>
        </p:blipFill>
        <p:spPr>
          <a:xfrm>
            <a:off x="762120" y="33526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75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824256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228600" y="228600"/>
            <a:ext cx="678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ork at the Re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to work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to babysit k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to listen to mus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to dance around when kn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s loo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2 dogs,1 cat, and 6 fish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to hang out with my frie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elp my parents out at ho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1143000" y="838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gs I want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676520" y="2514600"/>
            <a:ext cx="5486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job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kid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usban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ave my own hou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o to Hawaii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o travel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0" y="6858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I am good at……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152388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ing  my own thing and being an individu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5:00:23Z</dcterms:created>
  <dc:creator>Administrator</dc:creator>
  <dc:description/>
  <dc:language>en-US</dc:language>
  <cp:lastModifiedBy>Administrator</cp:lastModifiedBy>
  <dcterms:modified xsi:type="dcterms:W3CDTF">2010-11-01T15:36:56Z</dcterms:modified>
  <cp:revision>20</cp:revision>
  <dc:subject/>
  <dc:title>Slide 1</dc:title>
</cp:coreProperties>
</file>